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090-A10B-476A-923C-E5790568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3FB-2E0C-435E-BADA-E3C15CB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655-535F-49E5-BBF9-58D11E8C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AC3-9E3D-4B28-B0A1-BE0F8A9B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DE4-1711-490D-AE69-4EDF4BF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CF7-1C53-4497-A7B8-9BA3B004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F42-06D7-4C4A-8A2F-4F96174E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8A2-654B-4592-9C94-125A6CE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FA7-98A7-4134-A81E-E11310A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92A-B103-475F-8040-60AF915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845-2188-49C6-BC04-1AD894D0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0F0-F756-4810-8EBB-9B5DCC7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1EB-EC10-44C4-B06A-A2850230E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hfw.nic.in/NRHM/Documents" TargetMode="External"/><Relationship Id="rId2" Type="http://schemas.openxmlformats.org/officeDocument/2006/relationships/hyperlink" Target="http://www.maha-arogya.gov.i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on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and Sanitation Committ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ion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b Sekhar D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2.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ed revolving fund – granted in install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joint account holders – states to dec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– Sarpanch/President of VHSC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ails and account register maintenance by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o decide (ASHA/V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may be - ASHA/ANM/AW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ion and monitoring of the expenditure and records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M/MPW/Gram Panchay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intain updated Household Survey data to enable need based interven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of details of activities undertaken, expenditure incurred etc. will be maintained for public scrutin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reviewed by the ANM/Sarpan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level Panchayat Samiti will review functioning and progress of activities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ct Mission through members/block facilitators elicit information on the functioning of VHS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base may be maintained on VHS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Role of PRI in the success of the NRHM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 are seen as critical to the Planning, Implementation, and Monitoring of the NRH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o NRHM success ar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ectoral converg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Community ownership steered through village level health committees at the level of the Gram Panchaya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Well functioning public sector health system with support  from the private sector. 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ecent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rastructure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bas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use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Rural Health Mission (2005-12), Mission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of India. National Rural Health Miss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village health nutrition day, MOHFW, GO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ohfw.nic.in/NRHM/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aha-arogya.gov.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Thanks 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Health Offic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Arun Am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uberculosis Officer and DHO In-charge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Dha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ct Training Officer, Ward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ed Thrust on PRIs under NR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framework revolves around activation of PRIs in the rural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of health take front s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environmental sanitation and nutrition identified as vital components for better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starts from the village level and flows 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 being merger of Panchayat Raj Village health committees and water and sanitation committe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n of VHSC – a targeted inter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o. of members: increased scope of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A – an institution in itself, most ambitious intervention under NRH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panch, Secretary, AWW, ANM, ASHA, teachers, village members, CBOs, SHGs are members, with due representation from each hamlet, community and weaker s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female members (SC/ST/OBC grou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from NGO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ve a huge task of building capacity of these Committee memb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o empower them to adapt to their new role: monitoring of activities, evaluate planning process and maintenance of acc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hand holding is important ? NGOs to come into pi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ning process to emerge through community development proc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hold survey: maintain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health re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illage in the Gram Sab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ll members of health support team and work as a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etail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ory Rapid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SHAs and AWWs to collec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supervise ASHAs and AWWs to carry out all 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village health nutrition day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death*, birth and marriage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responsibiliti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clea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environmental sanitation – organize public health activities like cleanliness drives, sanitation drives, school health activities, health and nutritio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F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ccounts – of untied funds under NR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funds from other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s of the Committ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er will sign the attendance registers of th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Ws, Mid-Day meal Sanchalak, MPWs, and AN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Ws and ANMs to submit a bi-monthly village repor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mmittee along with the plan for next two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ommittee would decide format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 of the bi-monthly re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will receive funds of Rs 10,000 per yea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d may be used as per the discretion of the VH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yardstick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HM indicators translated into Village health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monitoring at the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of the A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Health Cale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 and Maternal death au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ialogue (Jan Samb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4:52:39Z</dcterms:created>
  <dc:creator>Dr. Shib Sekhar</dc:creator>
  <dc:description/>
  <dc:language>en-US</dc:language>
  <cp:lastModifiedBy>ShibSekhar</cp:lastModifiedBy>
  <dcterms:modified xsi:type="dcterms:W3CDTF">2008-02-06T15:13:25Z</dcterms:modified>
  <cp:revision>26</cp:revision>
  <dc:subject/>
  <dc:title>VHSC</dc:title>
</cp:coreProperties>
</file>